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73AA6-9300-490F-A1F0-EDEB64098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359CF-CB1D-4CE5-80D5-B6444D878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3005D-8584-43F1-A8A3-16309409F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61274-7183-4C60-876A-718D968A6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206E2-A10C-49EA-B6D3-92FDF6463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473D9-3758-47DC-A0AD-A6C236C8C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33C54-2DD4-49CC-BE89-91CEE0FBF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85735-574F-470E-B5F6-69FE27238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6B558-2241-46FD-876B-A221F488C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B6272-2D9C-4743-80D1-77EE40F5B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21FDE-0B6E-4C1C-86C8-267E7AEF8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ED67-118F-4C63-92C2-04BEE8CCE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B8DA-CA8C-4A48-972B-7BF1172FCF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pic>
        <p:nvPicPr>
          <p:cNvPr id="45" name="Picture 8" descr="comp_i"/>
          <p:cNvPicPr/>
          <p:nvPr/>
        </p:nvPicPr>
        <p:blipFill>
          <a:blip r:embed="rId1"/>
          <a:stretch/>
        </p:blipFill>
        <p:spPr>
          <a:xfrm>
            <a:off x="152280" y="3124080"/>
            <a:ext cx="3067200" cy="3067200"/>
          </a:xfrm>
          <a:prstGeom prst="rect">
            <a:avLst/>
          </a:prstGeom>
          <a:ln w="0">
            <a:noFill/>
          </a:ln>
        </p:spPr>
      </p:pic>
    </p:spTree>
  </p:cSld>
  <p:transition spd="slow" advTm="5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spd="slow" advTm="5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50"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spd="slow" advTm="5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s11b2</cp:lastModifiedBy>
  <dcterms:modified xsi:type="dcterms:W3CDTF">2012-06-18T11:00:3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